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8840" cy="44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143b68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143b6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D9E1-ECAD-4F1B-A860-7B24FC573822}" type="slidenum">
              <a:rPr b="0" lang="de-DE" sz="1200" spc="-1" strike="noStrike">
                <a:solidFill>
                  <a:srgbClr val="143b6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8840" cy="44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3816360" y="937584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E1F6-077B-49F2-B593-EC85A6AB0132}" type="slidenum">
              <a:rPr b="0" lang="de-DE" sz="1200" spc="-1" strike="noStrike">
                <a:solidFill>
                  <a:srgbClr val="143b6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B493F-B1FF-48B3-AB38-CBBF3ACFF9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627ED-1988-4AEB-A7EE-04394166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8A4AD-AE70-41BE-B7F8-20C2A04A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F7750-3707-4BC0-BAFC-D3EA55269C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360" y="-360"/>
            <a:ext cx="6102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A87A9-0BB9-4104-812C-D6A0CE64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7F2C6-A7BF-4337-AF69-644DBD4A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61435-7C94-47EF-BFD2-24CAE682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046CA-3ECF-4C63-8F4F-1A9F819B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360" y="-360"/>
            <a:ext cx="6102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7E59E-6FF4-4089-8071-A2E32ABC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5EDA4-E77B-4CE3-879D-FAB48B68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1F791-B3EB-4331-B3D8-4D3F2B6C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C8C7A-302E-44AF-8E0C-AA61E53B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0"/>
          <p:cNvSpPr/>
          <p:nvPr/>
        </p:nvSpPr>
        <p:spPr>
          <a:xfrm>
            <a:off x="0" y="0"/>
            <a:ext cx="710100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2600">
              <a:spcBef>
                <a:spcPts val="9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366840">
              <a:spcBef>
                <a:spcPts val="901"/>
              </a:spcBef>
              <a:buClr>
                <a:srgbClr val="000000"/>
              </a:buClr>
              <a:buFont typeface="Wingdings 3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273240"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1720" indent="2667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2520" y="6552720"/>
            <a:ext cx="358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534520" y="65527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697b8e"/>
                </a:solidFill>
                <a:latin typeface="Arial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3D2B-E2AF-4DB7-A660-D4F298EC2E36}" type="slidenum">
              <a:rPr b="1" lang="de-DE" sz="1000" spc="-1" strike="noStrike">
                <a:solidFill>
                  <a:srgbClr val="697b8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34"/>
          <p:cNvSpPr/>
          <p:nvPr/>
        </p:nvSpPr>
        <p:spPr>
          <a:xfrm>
            <a:off x="250920" y="406440"/>
            <a:ext cx="504720" cy="358560"/>
          </a:xfrm>
          <a:custGeom>
            <a:avLst/>
            <a:gdLst>
              <a:gd name="textAreaLeft" fmla="*/ 78840 w 504720"/>
              <a:gd name="textAreaRight" fmla="*/ 441720 w 504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pic>
        <p:nvPicPr>
          <p:cNvPr id="6" name="Picture 64" descr="bdbos"/>
          <p:cNvPicPr/>
          <p:nvPr/>
        </p:nvPicPr>
        <p:blipFill>
          <a:blip r:embed="rId2"/>
          <a:stretch/>
        </p:blipFill>
        <p:spPr>
          <a:xfrm>
            <a:off x="7164360" y="115920"/>
            <a:ext cx="1871640" cy="59040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5"/>
          <p:cNvSpPr/>
          <p:nvPr/>
        </p:nvSpPr>
        <p:spPr>
          <a:xfrm>
            <a:off x="0" y="6521400"/>
            <a:ext cx="882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0" y="2349360"/>
            <a:ext cx="9144000" cy="228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45" name="AutoShape 32"/>
          <p:cNvSpPr/>
          <p:nvPr/>
        </p:nvSpPr>
        <p:spPr>
          <a:xfrm>
            <a:off x="826920" y="3357720"/>
            <a:ext cx="505080" cy="358560"/>
          </a:xfrm>
          <a:custGeom>
            <a:avLst/>
            <a:gdLst>
              <a:gd name="textAreaLeft" fmla="*/ 78840 w 505080"/>
              <a:gd name="textAreaRight" fmla="*/ 442080 w 50508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pic>
        <p:nvPicPr>
          <p:cNvPr id="46" name="Picture 55" descr="bdbos"/>
          <p:cNvPicPr/>
          <p:nvPr/>
        </p:nvPicPr>
        <p:blipFill>
          <a:blip r:embed="rId2"/>
          <a:stretch/>
        </p:blipFill>
        <p:spPr>
          <a:xfrm>
            <a:off x="7164360" y="115920"/>
            <a:ext cx="1871640" cy="590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2600">
              <a:spcBef>
                <a:spcPts val="9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366840">
              <a:spcBef>
                <a:spcPts val="901"/>
              </a:spcBef>
              <a:buClr>
                <a:srgbClr val="000000"/>
              </a:buClr>
              <a:buFont typeface="Wingdings 3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273240"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1720" indent="2667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eferenz.wav" TargetMode="External"/><Relationship Id="rId2" Type="http://schemas.openxmlformats.org/officeDocument/2006/relationships/hyperlink" Target="file:///tmp/home/.config/libreoffice/4/user/gallery/GSM.wav" TargetMode="External"/><Relationship Id="rId3" Type="http://schemas.openxmlformats.org/officeDocument/2006/relationships/hyperlink" Target="file:///tmp/home/.config/libreoffice/4/user/gallery/Referenz.wav" TargetMode="External"/><Relationship Id="rId4" Type="http://schemas.openxmlformats.org/officeDocument/2006/relationships/hyperlink" Target="file:///tmp/home/.config/libreoffice/4/user/gallery/TETRA_HB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Interaktive Schaltfläche: Nächste(r) oder Weiter 7">
            <a:hlinkClick r:id="rId1"/>
          </p:cNvPr>
          <p:cNvSpPr/>
          <p:nvPr/>
        </p:nvSpPr>
        <p:spPr>
          <a:xfrm>
            <a:off x="611280" y="1341360"/>
            <a:ext cx="576000" cy="5749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1641" h="21600">
                <a:moveTo>
                  <a:pt x="0" y="0"/>
                </a:moveTo>
                <a:lnTo>
                  <a:pt x="21641" y="0"/>
                </a:lnTo>
                <a:lnTo>
                  <a:pt x="21641" y="21600"/>
                </a:lnTo>
                <a:lnTo>
                  <a:pt x="0" y="21600"/>
                </a:lnTo>
                <a:close/>
              </a:path>
              <a:path fill="lightenLess" w="21641" h="21600">
                <a:moveTo>
                  <a:pt x="0" y="0"/>
                </a:moveTo>
                <a:lnTo>
                  <a:pt x="21641" y="0"/>
                </a:lnTo>
                <a:lnTo>
                  <a:pt x="20241" y="1400"/>
                </a:lnTo>
                <a:lnTo>
                  <a:pt x="1400" y="1400"/>
                </a:lnTo>
                <a:close/>
              </a:path>
              <a:path fill="darken" w="21641" h="21600">
                <a:moveTo>
                  <a:pt x="21641" y="0"/>
                </a:moveTo>
                <a:lnTo>
                  <a:pt x="21641" y="21600"/>
                </a:lnTo>
                <a:lnTo>
                  <a:pt x="20241" y="20200"/>
                </a:lnTo>
                <a:lnTo>
                  <a:pt x="20241" y="1400"/>
                </a:lnTo>
                <a:close/>
              </a:path>
              <a:path fill="darkenLess" w="21641" h="21600">
                <a:moveTo>
                  <a:pt x="216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1" y="20200"/>
                </a:lnTo>
                <a:close/>
              </a:path>
              <a:path fill="lighten" w="216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1" h="21600">
                <a:moveTo>
                  <a:pt x="3814" y="3794"/>
                </a:moveTo>
                <a:lnTo>
                  <a:pt x="17827" y="10800"/>
                </a:lnTo>
                <a:lnTo>
                  <a:pt x="3814" y="1780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3" name="Textfeld 8"/>
          <p:cNvSpPr/>
          <p:nvPr/>
        </p:nvSpPr>
        <p:spPr>
          <a:xfrm>
            <a:off x="1258920" y="1395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Originaldatei</a:t>
            </a:r>
            <a:endParaRPr b="0" lang="en-US" sz="2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4" name="Interaktive Schaltfläche: Nächste(r) oder Weiter 9">
            <a:hlinkClick r:id="rId2"/>
          </p:cNvPr>
          <p:cNvSpPr/>
          <p:nvPr/>
        </p:nvSpPr>
        <p:spPr>
          <a:xfrm>
            <a:off x="611280" y="2565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5" name="Textfeld 10"/>
          <p:cNvSpPr/>
          <p:nvPr/>
        </p:nvSpPr>
        <p:spPr>
          <a:xfrm>
            <a:off x="1332000" y="263700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GSM-Mobilfunknetz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13 kbit/s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6" name="Interaktive Schaltfläche: Nächste(r) oder Weiter 11">
            <a:hlinkClick r:id="rId3"/>
          </p:cNvPr>
          <p:cNvSpPr/>
          <p:nvPr/>
        </p:nvSpPr>
        <p:spPr>
          <a:xfrm>
            <a:off x="644400" y="48988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7" name="Textfeld 12"/>
          <p:cNvSpPr/>
          <p:nvPr/>
        </p:nvSpPr>
        <p:spPr>
          <a:xfrm>
            <a:off x="1366920" y="5013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Analogfunk (4m)</a:t>
            </a:r>
            <a:endParaRPr b="0" lang="en-US" sz="2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8" name="Interaktive Schaltfläche: Nächste(r) oder Weiter 15">
            <a:hlinkClick r:id="rId4"/>
          </p:cNvPr>
          <p:cNvSpPr/>
          <p:nvPr/>
        </p:nvSpPr>
        <p:spPr>
          <a:xfrm>
            <a:off x="611280" y="370368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9" name="Textfeld 16"/>
          <p:cNvSpPr/>
          <p:nvPr/>
        </p:nvSpPr>
        <p:spPr>
          <a:xfrm>
            <a:off x="1403280" y="3789360"/>
            <a:ext cx="76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BOS-Digitalfunknetz (TETRA)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4,567 kbit/s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0" name="Titel 1"/>
          <p:cNvSpPr/>
          <p:nvPr/>
        </p:nvSpPr>
        <p:spPr>
          <a:xfrm>
            <a:off x="990720" y="0"/>
            <a:ext cx="6102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gleich GSM, Analogfunk, TETRA</a:t>
            </a:r>
            <a:endParaRPr b="0" lang="en-US" sz="28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1" name="Textfeld 13"/>
          <p:cNvSpPr/>
          <p:nvPr/>
        </p:nvSpPr>
        <p:spPr>
          <a:xfrm>
            <a:off x="539640" y="589608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Die Sprachprobe für die Übertragung im Analogfunk wurde über ein Mikro mit Unterstützung der AS Berlin aufgenommen.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2" name="Foliennummernplatzhalter 3"/>
          <p:cNvSpPr/>
          <p:nvPr/>
        </p:nvSpPr>
        <p:spPr>
          <a:xfrm>
            <a:off x="8534520" y="6553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3E1C-0129-489D-B159-AF7464629CF1}" type="slidenum">
              <a:rPr b="1" lang="de-DE" sz="1000" spc="-1" strike="noStrike">
                <a:solidFill>
                  <a:srgbClr val="697b8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10:32:55Z</dcterms:created>
  <dc:creator>BDBOS, PG ZPM</dc:creator>
  <dc:description/>
  <dc:language>en-US</dc:language>
  <cp:lastModifiedBy>db</cp:lastModifiedBy>
  <dcterms:modified xsi:type="dcterms:W3CDTF">2013-06-09T14:35:53Z</dcterms:modified>
  <cp:revision>698</cp:revision>
  <dc:subject>Informationsveranstaltung PG ZPM und TP FZ</dc:subject>
  <dc:title>Sprachqualität</dc:title>
</cp:coreProperties>
</file>